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641-086E-438F-A3BF-95692DDE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873-BF10-4731-9871-DC448D9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D79-13D4-4EC0-BD36-50C4C78A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F60-673D-498A-A004-670719A3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F6D8-A23A-4DC3-A3C8-B1587705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7FE1-88FB-421E-B907-5D99DFA2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8A37-9364-4203-BB68-AE5A6471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D67-4376-41AC-911C-0AEA287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C50F-6562-40F2-8CF2-9FDB7D77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DFE-C21D-4938-AAA9-3C7EFE8B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85A4-6E97-4454-82E6-D3CF52F9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412-DE70-4975-A7DD-72301F2E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1870-6FB1-4B65-BA8F-C1167B78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6294-6408-4063-86F7-42054FC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536-371E-4294-83D3-0AD3412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9DC-4AD3-4327-BD51-01ED4CD7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5CF7-D547-4835-8E74-5003D1BB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C5C-E41F-4C25-BA4E-A6FB7BA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9C0-DA4E-4925-B587-4837F637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9F0-4A3B-4689-BC61-9D05AB58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938-548E-424D-9B88-3046BD75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269-23CD-426F-8860-EAA02F2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523-6747-4EEC-9B68-DF51505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4473-8B2F-4A22-B052-AF558D6E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merican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697-09B1-4B25-B368-A75EC94C8920}" type="slidenum">
              <a:rPr b="0" lang="en-US" sz="1400" spc="-1" strike="noStrike">
                <a:solidFill>
                  <a:srgbClr val="000000"/>
                </a:solidFill>
                <a:latin typeface="American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merican Typewrit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merican Typewrite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02DF-79EA-4727-859A-F9FEE9F6B388}" type="slidenum">
              <a:rPr b="0" lang="en-US" sz="1400" spc="-1" strike="noStrike">
                <a:solidFill>
                  <a:srgbClr val="000000"/>
                </a:solidFill>
                <a:latin typeface="American Typewrit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olive2"/>
          <p:cNvPicPr/>
          <p:nvPr/>
        </p:nvPicPr>
        <p:blipFill>
          <a:blip r:embed="rId1"/>
          <a:stretch/>
        </p:blipFill>
        <p:spPr>
          <a:xfrm>
            <a:off x="2514600" y="40384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0"/>
            <a:ext cx="53341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Typewriter"/>
              </a:rPr>
              <a:t>Agenda 3-5 &amp; 8-12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merican Typewriter"/>
              </a:rPr>
              <a:t>*Greek Pottery Scene due this Friday. 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merican Typewriter"/>
              </a:rPr>
              <a:t>****Get out Gold Book worksheet with chart****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1143000"/>
            <a:ext cx="5257800" cy="256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erican Typewriter"/>
              </a:rPr>
              <a:t>Focus 3-5 &amp; 8-12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buClr>
                <a:srgbClr val="00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erican Typewriter"/>
              </a:rPr>
              <a:t>What was Greece’s major export?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merican Typewriter"/>
              </a:rPr>
              <a:t>2. Because much of Greece is mountainous with poor soil which resulted in insufficient crops, supplies had to be_________ from other places around the Mediterranean Sea.</a:t>
            </a: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merican Typewriter"/>
            </a:endParaRPr>
          </a:p>
        </p:txBody>
      </p:sp>
      <p:pic>
        <p:nvPicPr>
          <p:cNvPr id="85" name="Picture 7" descr="olive8"/>
          <p:cNvPicPr/>
          <p:nvPr/>
        </p:nvPicPr>
        <p:blipFill>
          <a:blip r:embed="rId2"/>
          <a:srcRect l="2671" t="0" r="1335" b="0"/>
          <a:stretch/>
        </p:blipFill>
        <p:spPr>
          <a:xfrm>
            <a:off x="5925960" y="149400"/>
            <a:ext cx="2743200" cy="314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olive4"/>
          <p:cNvPicPr/>
          <p:nvPr/>
        </p:nvPicPr>
        <p:blipFill>
          <a:blip r:embed="rId3"/>
          <a:srcRect l="0" t="6138" r="0" b="0"/>
          <a:stretch/>
        </p:blipFill>
        <p:spPr>
          <a:xfrm>
            <a:off x="0" y="3429000"/>
            <a:ext cx="2803680" cy="342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Image:Olivetree 1500yrs.jpg"/>
          <p:cNvPicPr/>
          <p:nvPr/>
        </p:nvPicPr>
        <p:blipFill>
          <a:blip r:embed="rId4"/>
          <a:srcRect l="5999" t="0" r="24003" b="14003"/>
          <a:stretch/>
        </p:blipFill>
        <p:spPr>
          <a:xfrm>
            <a:off x="5268960" y="3276720"/>
            <a:ext cx="3875040" cy="3581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6"/>
          <p:cNvSpPr/>
          <p:nvPr/>
        </p:nvSpPr>
        <p:spPr>
          <a:xfrm>
            <a:off x="4191120" y="1447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merican Typewriter"/>
              </a:rPr>
              <a:t>Olive oil</a:t>
            </a:r>
            <a:endParaRPr b="0" lang="en-US" sz="1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838080" y="27432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merican Typewriter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819520" y="6248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merican Typewriter"/>
              </a:rPr>
              <a:t>An olive tree claimed to be around 1,500 yrs old</a:t>
            </a:r>
            <a:endParaRPr b="0" lang="en-US" sz="1600" spc="-1" strike="noStrike">
              <a:solidFill>
                <a:srgbClr val="000000"/>
              </a:solidFill>
              <a:latin typeface="American Typewriter"/>
            </a:endParaRPr>
          </a:p>
        </p:txBody>
      </p:sp>
      <p:sp>
        <p:nvSpPr>
          <p:cNvPr id="91" name="Line 19"/>
          <p:cNvSpPr/>
          <p:nvPr/>
        </p:nvSpPr>
        <p:spPr>
          <a:xfrm flipV="1">
            <a:off x="5105520" y="5867280"/>
            <a:ext cx="76176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KISH_04_77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848880" y="5943600"/>
            <a:ext cx="66837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http://www.eduplace.com/kids/socsci/ca/books/bkf3/imaps/AC_11_351_grtrade/AC_11_351_grtrade.html</a:t>
            </a:r>
            <a:endParaRPr b="0" lang="en-US" sz="1200" spc="-1" strike="noStrike">
              <a:solidFill>
                <a:srgbClr val="000000"/>
              </a:solidFill>
              <a:latin typeface="American Typewrite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merican Typewri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Alexander the Great</a:t>
            </a:r>
            <a:endParaRPr b="0" lang="en-US" sz="4400" spc="-1" strike="noStrike">
              <a:solidFill>
                <a:srgbClr val="000000"/>
              </a:solidFill>
              <a:latin typeface="American Typewriter"/>
            </a:endParaRPr>
          </a:p>
        </p:txBody>
      </p:sp>
      <p:pic>
        <p:nvPicPr>
          <p:cNvPr id="95" name="Picture 19" descr="alexander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alexander"/>
          <p:cNvPicPr/>
          <p:nvPr/>
        </p:nvPicPr>
        <p:blipFill>
          <a:blip r:embed="rId1"/>
          <a:stretch/>
        </p:blipFill>
        <p:spPr>
          <a:xfrm>
            <a:off x="304920" y="1371600"/>
            <a:ext cx="85611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LIGHTHOUSE%20OF%20ALEXANDR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LIGHTHOUSE%20OF%20ALEXANDR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3:01:06Z</dcterms:created>
  <dc:creator>MARIE Katzenbach</dc:creator>
  <dc:description/>
  <dc:language>en-US</dc:language>
  <cp:lastModifiedBy>poweruser</cp:lastModifiedBy>
  <dcterms:modified xsi:type="dcterms:W3CDTF">2012-03-09T22:21:02Z</dcterms:modified>
  <cp:revision>154</cp:revision>
  <dc:subject/>
  <dc:title>Jason and the Argonauts</dc:title>
</cp:coreProperties>
</file>